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0FC-F740-4765-903E-48E7F8B1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602-EB75-421E-A503-8274702D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34B-7CDB-4341-9446-0291880E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419-1C98-4566-B647-392C42DA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7F12-D203-4034-BFD2-26BDAAAC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7FE-D89D-492C-B8DB-3D4857DA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0A71-4136-49F2-B962-EFC21C35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2C2C-360A-4F48-B86E-0CD15D8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6AD5-4C10-4ACC-8467-BB06DC3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2198-49CB-4709-A86E-5ACDBAC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FBC3-27D1-44E3-A487-E14B18F3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7A7-3637-430F-ABFC-EE4F5D2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DDC-D6C6-44C2-B4C5-852973A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33EB-03BE-44DC-B22F-163CC94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5F3-D595-4259-9293-7CA0096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D57D-02E4-4D15-AECB-553B2480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7085-5A2E-4884-B3B6-D9768C4D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C4F7-B35A-48E0-B872-624779BF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2B0B-C962-4684-A607-02F50DC5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93FE-03D5-41A0-9119-459F7131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445D-2902-4FC5-BA77-4553420D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3DB8-AA22-4E4E-95E3-30C855F7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A4C-29B1-4BFC-A780-80B25923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5EC8-43B7-4B21-894E-BFBA462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08D3-1413-496C-8071-435B759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B863-FDD0-49EA-B94C-BAD7148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F3E5-55B5-439C-B641-39CC93F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275E-488F-4930-96D6-7BD2ECE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BE35-20EE-49AE-9867-D891A959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02FA-6062-47D1-9CEA-0F905A4C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4806-3903-4B2B-A1D5-C2FC1C2E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F79A-432F-4417-9F14-44D3AB7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F715-84D2-4A14-B6B4-53CBA6A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67A-D3AA-4EB7-AC7A-9B89CF37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A269-010A-45C3-890A-66A0F24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9794-C613-4429-8B82-6DC69DA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9CAF-CDAE-478E-857C-D946FA2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620B-E370-464B-BDD4-B600374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0058-1A2B-432A-8D82-1FBE0F1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5B20-1078-425A-AE3E-F855D71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8C17-70E7-4FB9-AE1F-9E2B2CF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9B53-C844-4179-AFC0-038967EE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A6C7-D349-4D0C-846D-BD8DA08C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63E-8915-49C0-BFC0-56144936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403-A161-4B87-B350-5BE2F47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687-3D88-41A4-9D0D-E22EF8A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A61-7E41-4055-9899-E31B0D0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0B6-F087-4121-87A3-0DF74F3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79D42-82C3-4E0C-8A62-775DA3A7E57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85FD8-60C1-4A35-9BB6-6A5AC38BE7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E806B-36F1-4B99-B04F-789C4A2C1FE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AC09-C314-42C1-B9DE-52BB8A6B00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D6DFF-B450-48F2-B760-E6F9FDA4BBE9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58524-4D5D-4069-8863-ACE1554641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DD46C-791A-4EAF-BF59-8F6D91B97B5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516CE-995F-4EBC-A90A-1DB6E63D2D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youtube.com/watch?v=PCVO9c9q4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523800" y="1262160"/>
            <a:ext cx="786456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utosomal Dominant Disorder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nheritance of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nly one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py of the mutated gene is necessary to be affected by the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Autosomal Dominant Disorder,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Huntington’s Disease and othe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Reproduction is then more dangerous because children have a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50%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hance of inheriting the mutated gene if their parent has it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s is because the mutated gene is expressed in both dominant Homozygotes and Heterozygotes.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utosomal Recessive Disorder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hereas,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Autosomal Recessive Disorders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require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mutated genes be inherited to be affecte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onstantia"/>
              </a:rPr>
              <a:t>(most genetic disorders are recessive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 Cystic Fibrosis, Sickle-Cell Anemia, and Tay-Sachs Diseas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would be Homozygous Recessive for these disorder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ssive disorders are usually inherited when both parents are “carrying” the mutated recessive gene (they ar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eterozygo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ost people do not know they are a CARRIER until they have a child with the disease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value of studying Genetics is in understanding how we can predict the likelihood of inheriting particular trait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to set up a Punnett Square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punnett square.jpg"/>
          <p:cNvPicPr/>
          <p:nvPr/>
        </p:nvPicPr>
        <p:blipFill>
          <a:blip r:embed="rId2"/>
          <a:srcRect l="-17143" t="0" r="-17143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hybrid Cross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ross or mating between two organisms where two genes are studied are called a DIHYBRID cro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enes are located on separate chromosomes, so the traits themselves are unre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gWw X GgW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Content Placeholder 3" descr="dihybrid cross.jpg"/>
          <p:cNvPicPr/>
          <p:nvPr/>
        </p:nvPicPr>
        <p:blipFill>
          <a:blip r:embed="rId2"/>
          <a:srcRect l="-19915" t="0" r="-19915" b="0"/>
          <a:stretch/>
        </p:blipFill>
        <p:spPr>
          <a:xfrm>
            <a:off x="-254160" y="1814400"/>
            <a:ext cx="9398160" cy="47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2:28:29Z</dcterms:created>
  <dc:creator>Taryn Williams</dc:creator>
  <dc:description/>
  <dc:language>en-US</dc:language>
  <cp:lastModifiedBy>Taryn Williams</cp:lastModifiedBy>
  <dcterms:modified xsi:type="dcterms:W3CDTF">2011-02-24T07:49:12Z</dcterms:modified>
  <cp:revision>6</cp:revision>
  <dc:subject/>
  <dc:title>HUNTINGTON’S DISEASE (HD)</dc:title>
</cp:coreProperties>
</file>